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53ED-42D4-4E2E-A5C0-1634033EC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0051-F57F-4DDA-A6BE-687023ECA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002B-1EFE-4432-BF29-EE811C590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64DD-A631-44D3-97CD-EBE57F4FC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E50C-835F-41BC-8D75-318A1887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8D15-8AFB-4951-8988-22ABA3EF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01AF-D57A-4297-88F4-34375CDD0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9C9B-ECB7-40ED-A180-E81790CFA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0EBF-B191-4C49-9C3F-BCDD453D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589C-D8F4-4C77-8EE3-9591F2CB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3353-051D-48FA-8ECA-CF78679C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DC95-F363-414A-A273-7127E10E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1CAF-DB22-42CC-AF90-6B3EFFEE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9531-EE91-4480-A6F6-E29E9030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ED32-3C5C-48C8-9DA1-66D14E03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5914-747F-4CF5-A704-29924226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A864-91EF-48E6-9001-BE2FA08EF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hyperlink" Target="http://www.learnquebec.ca/en/content/curriculum/social_sciences/features/missingpages/images/u1p9.gif" TargetMode="External"/><Relationship Id="rId10" Type="http://schemas.openxmlformats.org/officeDocument/2006/relationships/image" Target="../media/image3.jpeg"/><Relationship Id="rId11" Type="http://schemas.openxmlformats.org/officeDocument/2006/relationships/hyperlink" Target="http://www.worst-city.com/small-photos/well-dressed-fashionable-young-black-girl-african-slave-trade-child-abuse-sex-trade.jpg" TargetMode="External"/><Relationship Id="rId12" Type="http://schemas.openxmlformats.org/officeDocument/2006/relationships/image" Target="../media/image4.jpeg"/><Relationship Id="rId13" Type="http://schemas.openxmlformats.org/officeDocument/2006/relationships/hyperlink" Target="http://www.worst-city.com/small-photos/well-dressed-fashionable-young-black-girl-african-slave-trade-child-abuse-sex-trade.jpg" TargetMode="External"/><Relationship Id="rId14" Type="http://schemas.openxmlformats.org/officeDocument/2006/relationships/image" Target="../media/image4.jpeg"/><Relationship Id="rId15" Type="http://schemas.openxmlformats.org/officeDocument/2006/relationships/hyperlink" Target="http://bullittlickbaptist.org/BLBCBlog/wp-content/uploads/2010/01/jonathanedwardssmallbw.jpg" TargetMode="External"/><Relationship Id="rId16" Type="http://schemas.openxmlformats.org/officeDocument/2006/relationships/image" Target="../media/image5.jpeg"/><Relationship Id="rId17" Type="http://schemas.openxmlformats.org/officeDocument/2006/relationships/hyperlink" Target="http://bullittlickbaptist.org/BLBCBlog/wp-content/uploads/2010/01/jonathanedwardssmallbw.jpg" TargetMode="External"/><Relationship Id="rId18" Type="http://schemas.openxmlformats.org/officeDocument/2006/relationships/image" Target="../media/image5.jpeg"/><Relationship Id="rId19" Type="http://schemas.openxmlformats.org/officeDocument/2006/relationships/image" Target="../media/image6.jpeg"/><Relationship Id="rId20" Type="http://schemas.openxmlformats.org/officeDocument/2006/relationships/hyperlink" Target="http://www.lessing-photo.com/p3/250101/25010120.jpg" TargetMode="External"/><Relationship Id="rId21" Type="http://schemas.openxmlformats.org/officeDocument/2006/relationships/image" Target="../media/image7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image" Target="../media/image1.jpeg"/><Relationship Id="rId6" Type="http://schemas.openxmlformats.org/officeDocument/2006/relationships/hyperlink" Target="http://earlychurch.com/images/zz-1700-02.jpg" TargetMode="External"/><Relationship Id="rId7" Type="http://schemas.openxmlformats.org/officeDocument/2006/relationships/image" Target="../media/image8.jpeg"/><Relationship Id="rId8" Type="http://schemas.openxmlformats.org/officeDocument/2006/relationships/hyperlink" Target="http://seacoastnh.com/arts/res/moulton1.jpeg" TargetMode="External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hyperlink" Target="http://earlychurch.com/images/zz-1700-01.jpg" TargetMode="External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hyperlink" Target="http://earlychurch.com/images/zz-1700-02.jpg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seacoastnh.com/arts/res/moulton1.jpeg" TargetMode="External"/><Relationship Id="rId11" Type="http://schemas.openxmlformats.org/officeDocument/2006/relationships/image" Target="../media/image9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8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057400" y="5335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cky Berry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eing from Boston goin to new jersey wish me luc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cky Be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Becky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Becky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Beck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4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d0d0d"/>
                </a:solidFill>
                <a:latin typeface="Arial"/>
              </a:rPr>
              <a:t>Society of Mai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cember 18, 17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Occupat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ston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6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9"/>
          <p:cNvSpPr/>
          <p:nvPr/>
        </p:nvSpPr>
        <p:spPr>
          <a:xfrm>
            <a:off x="0" y="57913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2"/>
          <p:cNvSpPr/>
          <p:nvPr/>
        </p:nvSpPr>
        <p:spPr>
          <a:xfrm>
            <a:off x="685800" y="57913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ab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5"/>
          <p:cNvSpPr/>
          <p:nvPr/>
        </p:nvSpPr>
        <p:spPr>
          <a:xfrm>
            <a:off x="1219320" y="57913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ster Lock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0"/>
          <p:cNvSpPr/>
          <p:nvPr/>
        </p:nvSpPr>
        <p:spPr>
          <a:xfrm>
            <a:off x="0" y="65530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dam Lock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3"/>
          <p:cNvSpPr/>
          <p:nvPr/>
        </p:nvSpPr>
        <p:spPr>
          <a:xfrm>
            <a:off x="609480" y="6553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dy Seymo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ky Berry –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leeing from Boston goin to new jersey wish me luck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15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 Gardner - Becky Berry –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ll Isabel im doin fine and not to wor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3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ter Lockton - Becky Berry –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n’t forget to go to the market tonight for my din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17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ky Berry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– goin to a hanging tonight … lots of fun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 9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ky Berry -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he slave girls Isabel and Ruth are very nice to be arou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3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ky Berry -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ster Lockton just bought 2 new slave girls hope there n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9" descr="http://museumnetworkuk.org/portraits/artworks/holburne/large/img10.jpg"/>
          <p:cNvPicPr/>
          <p:nvPr/>
        </p:nvPicPr>
        <p:blipFill>
          <a:blip r:embed="rId4"/>
          <a:stretch/>
        </p:blipFill>
        <p:spPr>
          <a:xfrm>
            <a:off x="152280" y="457200"/>
            <a:ext cx="1600200" cy="1905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9" descr="http://museumnetworkuk.org/portraits/artworks/holburne/large/img10.jpg"/>
          <p:cNvPicPr/>
          <p:nvPr/>
        </p:nvPicPr>
        <p:blipFill>
          <a:blip r:embed="rId5"/>
          <a:stretch/>
        </p:blipFill>
        <p:spPr>
          <a:xfrm>
            <a:off x="2133720" y="2514600"/>
            <a:ext cx="380880" cy="533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9" descr="http://museumnetworkuk.org/portraits/artworks/holburne/large/img10.jpg"/>
          <p:cNvPicPr/>
          <p:nvPr/>
        </p:nvPicPr>
        <p:blipFill>
          <a:blip r:embed="rId6"/>
          <a:stretch/>
        </p:blipFill>
        <p:spPr>
          <a:xfrm>
            <a:off x="2133720" y="4572000"/>
            <a:ext cx="380880" cy="533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9" descr="http://museumnetworkuk.org/portraits/artworks/holburne/large/img10.jpg"/>
          <p:cNvPicPr/>
          <p:nvPr/>
        </p:nvPicPr>
        <p:blipFill>
          <a:blip r:embed="rId7"/>
          <a:stretch/>
        </p:blipFill>
        <p:spPr>
          <a:xfrm>
            <a:off x="2133720" y="5257800"/>
            <a:ext cx="380880" cy="533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9" descr="http://museumnetworkuk.org/portraits/artworks/holburne/large/img10.jpg"/>
          <p:cNvPicPr/>
          <p:nvPr/>
        </p:nvPicPr>
        <p:blipFill>
          <a:blip r:embed="rId8"/>
          <a:stretch/>
        </p:blipFill>
        <p:spPr>
          <a:xfrm>
            <a:off x="2133720" y="5867280"/>
            <a:ext cx="380880" cy="533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5" descr="See full size imag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5800" y="525780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1" descr="See full size imag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52280" y="525780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1" descr="See full size image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133720" y="3200400"/>
            <a:ext cx="380880" cy="533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3" descr="See full size image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133720" y="3809880"/>
            <a:ext cx="380880" cy="609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3" descr="See full size image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219320" y="525780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5" descr="http://2.bp.blogspot.com/_CvDCiEFbNy8/SzbN3iDftLI/AAAAAAAAMlY/Jf63OzHoGdA/s400/Johann+Valentin+Haidt+(1700-1780)+Moravian+Archives,+Bethlehem,+Pennsylvania.jpg"/>
          <p:cNvPicPr/>
          <p:nvPr/>
        </p:nvPicPr>
        <p:blipFill>
          <a:blip r:embed="rId19"/>
          <a:stretch/>
        </p:blipFill>
        <p:spPr>
          <a:xfrm>
            <a:off x="152280" y="601992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7" descr="See full size image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685800" y="60199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7524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cky Berry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eing from Boston goin to new jersey wish me luc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>
            <a:hlinkClick r:id="rId1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cky Be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Berry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Berry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Ber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1">
            <a:hlinkClick r:id="rId3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3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0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ciety of Mai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Occupat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ston, 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4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ociety of Mai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December 18, 17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Boston, Massachuset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i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Occupatio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5"/>
          <p:cNvSpPr/>
          <p:nvPr/>
        </p:nvSpPr>
        <p:spPr>
          <a:xfrm>
            <a:off x="2133720" y="3200400"/>
            <a:ext cx="4495680" cy="12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Cleaning up after my master, Cooking, and watching the sla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Watching  public Activ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Bach, Beethoven, and Han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Phantom of the Opera, and any other Shakespeare plays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Nanny, Pai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Romeo and Juliet and the series of A Midsummer Night’s drea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7"/>
          <p:cNvSpPr/>
          <p:nvPr/>
        </p:nvSpPr>
        <p:spPr>
          <a:xfrm>
            <a:off x="838080" y="5486400"/>
            <a:ext cx="83844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Slave Gir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0"/>
          <p:cNvSpPr/>
          <p:nvPr/>
        </p:nvSpPr>
        <p:spPr>
          <a:xfrm>
            <a:off x="838080" y="6172200"/>
            <a:ext cx="83844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Lockton’s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3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54 Wall Street  New York City, NY 100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212)-704-34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981080" y="8380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9" descr="http://museumnetworkuk.org/portraits/artworks/holburne/large/img10.jpg"/>
          <p:cNvPicPr/>
          <p:nvPr/>
        </p:nvPicPr>
        <p:blipFill>
          <a:blip r:embed="rId5"/>
          <a:stretch/>
        </p:blipFill>
        <p:spPr>
          <a:xfrm>
            <a:off x="152280" y="457200"/>
            <a:ext cx="1600200" cy="1905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3" descr="See full 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5334120"/>
            <a:ext cx="685800" cy="609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6" descr="See full size im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52280" y="6095880"/>
            <a:ext cx="6858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5800" y="4952880"/>
            <a:ext cx="38098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685800" y="4952880"/>
            <a:ext cx="259092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cky Be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4">
            <a:hlinkClick r:id="rId1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>
            <a:hlinkClick r:id="rId2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8"/>
          <p:cNvSpPr/>
          <p:nvPr/>
        </p:nvSpPr>
        <p:spPr>
          <a:xfrm>
            <a:off x="685800" y="1752480"/>
            <a:ext cx="7467480" cy="274320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Beck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cky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3"/>
          <p:cNvSpPr/>
          <p:nvPr/>
        </p:nvSpPr>
        <p:spPr>
          <a:xfrm>
            <a:off x="762120" y="6172200"/>
            <a:ext cx="99036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Slave Gir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4"/>
          <p:cNvSpPr/>
          <p:nvPr/>
        </p:nvSpPr>
        <p:spPr>
          <a:xfrm>
            <a:off x="2057400" y="617220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Lockton’s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5"/>
          <p:cNvSpPr/>
          <p:nvPr/>
        </p:nvSpPr>
        <p:spPr>
          <a:xfrm>
            <a:off x="3352680" y="6172200"/>
            <a:ext cx="99072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cky Berry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ling from Boston goin to new jersey wish me luc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7" descr="http://museumnetworkuk.org/portraits/artworks/holburne/large/img10.jpg"/>
          <p:cNvPicPr/>
          <p:nvPr/>
        </p:nvPicPr>
        <p:blipFill>
          <a:blip r:embed="rId3"/>
          <a:stretch/>
        </p:blipFill>
        <p:spPr>
          <a:xfrm>
            <a:off x="3276720" y="51055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9" descr="http://mickmaurer.com/sitebuilder/images/Jan-Vermeer_milkMaid_f-290x329.jpg"/>
          <p:cNvPicPr/>
          <p:nvPr/>
        </p:nvPicPr>
        <p:blipFill>
          <a:blip r:embed="rId4"/>
          <a:stretch/>
        </p:blipFill>
        <p:spPr>
          <a:xfrm>
            <a:off x="2133720" y="1905120"/>
            <a:ext cx="1218960" cy="1143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1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057400" y="31240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9" descr="http://museumnetworkuk.org/portraits/artworks/holburne/large/img10.jpg"/>
          <p:cNvPicPr/>
          <p:nvPr/>
        </p:nvPicPr>
        <p:blipFill>
          <a:blip r:embed="rId7"/>
          <a:stretch/>
        </p:blipFill>
        <p:spPr>
          <a:xfrm>
            <a:off x="152280" y="457200"/>
            <a:ext cx="68580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3" descr="See full size im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838080" y="5105520"/>
            <a:ext cx="1181160" cy="990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7" descr="See full size image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133720" y="51055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9" descr="See full size image"/>
          <p:cNvPicPr/>
          <p:nvPr/>
        </p:nvPicPr>
        <p:blipFill>
          <a:blip r:embed="rId12"/>
          <a:stretch/>
        </p:blipFill>
        <p:spPr>
          <a:xfrm>
            <a:off x="3505320" y="3124080"/>
            <a:ext cx="1371600" cy="1295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1" descr="http://www.intofineart.com/upload/file-admin/images/new23/Jean%20Simeon%20Chardin-998879.jpg"/>
          <p:cNvPicPr/>
          <p:nvPr/>
        </p:nvPicPr>
        <p:blipFill>
          <a:blip r:embed="rId13"/>
          <a:stretch/>
        </p:blipFill>
        <p:spPr>
          <a:xfrm>
            <a:off x="838080" y="1905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3" descr="Jean-Baptiste Greuze's oil painting The Broken Mirror 1763"/>
          <p:cNvPicPr/>
          <p:nvPr/>
        </p:nvPicPr>
        <p:blipFill>
          <a:blip r:embed="rId14"/>
          <a:stretch/>
        </p:blipFill>
        <p:spPr>
          <a:xfrm>
            <a:off x="4952880" y="190512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5" descr="See full size image"/>
          <p:cNvPicPr/>
          <p:nvPr/>
        </p:nvPicPr>
        <p:blipFill>
          <a:blip r:embed="rId15"/>
          <a:stretch/>
        </p:blipFill>
        <p:spPr>
          <a:xfrm>
            <a:off x="3505320" y="190512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7" descr="http://www.museum.ru/museum/primitiv/catalog/JK_0010p.jpg"/>
          <p:cNvPicPr/>
          <p:nvPr/>
        </p:nvPicPr>
        <p:blipFill>
          <a:blip r:embed="rId16"/>
          <a:stretch/>
        </p:blipFill>
        <p:spPr>
          <a:xfrm>
            <a:off x="838080" y="3124080"/>
            <a:ext cx="116208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Student</cp:lastModifiedBy>
  <dcterms:modified xsi:type="dcterms:W3CDTF">2011-05-02T18:55:34Z</dcterms:modified>
  <cp:revision>30</cp:revision>
  <dc:subject/>
  <dc:title>Profile</dc:title>
</cp:coreProperties>
</file>